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24F5D-74E9-4D22-8FF5-496BE1739254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9EF72-2C82-4CDC-BD12-A7E0022DB8E6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E678-E2BD-48F3-8197-4C74C686F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24D7-2BEB-40E5-BA92-9E90BF157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FBD5-9B19-429F-8B35-26B5E0E32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4AB1-E27A-4FEC-A43F-630B2159D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9E79-52C0-4D98-AF8A-9E03B8658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183F-B56B-446B-9CE2-9D3B7B2C2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B870-AE8C-44E1-816A-2C00DF861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1564-F08F-4AC3-9DD6-AFEDD0121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281C-0ABB-4C3C-BBE9-4F19D2ACC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9EE8-4226-4509-B47A-D73401E9E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B164-A024-4148-8B8D-E6D41246A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E5AA-ADDB-492A-B103-DC5FA7355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9DE13-C9FE-4B17-9122-F1C43C827050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6000840"/>
          <a:ext cx="6215040" cy="107316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55720"/>
                <a:gridCol w="717480"/>
              </a:tblGrid>
              <a:tr h="23292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714384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484200"/>
                <a:gridCol w="1230120"/>
                <a:gridCol w="571680"/>
                <a:gridCol w="642960"/>
                <a:gridCol w="866520"/>
                <a:gridCol w="865440"/>
                <a:gridCol w="98244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장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4643280"/>
          <a:ext cx="6215040" cy="130176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684360"/>
                <a:gridCol w="730080"/>
              </a:tblGrid>
              <a:tr h="3625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4000680"/>
          <a:ext cx="6215040" cy="56808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19548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205740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54" name="Picture 240" descr=""/>
          <p:cNvPicPr/>
          <p:nvPr/>
        </p:nvPicPr>
        <p:blipFill>
          <a:blip r:embed="rId1"/>
          <a:stretch/>
        </p:blipFill>
        <p:spPr>
          <a:xfrm>
            <a:off x="357120" y="285840"/>
            <a:ext cx="949320" cy="428400"/>
          </a:xfrm>
          <a:prstGeom prst="rect">
            <a:avLst/>
          </a:prstGeom>
          <a:ln w="0">
            <a:noFill/>
          </a:ln>
        </p:spPr>
      </p:pic>
      <p:sp>
        <p:nvSpPr>
          <p:cNvPr id="55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5873040" y="47844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입사원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57120" y="75708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48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71520" y="2697120"/>
          <a:ext cx="6205320" cy="1241640"/>
        </p:xfrm>
        <a:graphic>
          <a:graphicData uri="http://schemas.openxmlformats.org/drawingml/2006/table">
            <a:tbl>
              <a:tblPr/>
              <a:tblGrid>
                <a:gridCol w="571320"/>
                <a:gridCol w="571680"/>
                <a:gridCol w="1143000"/>
                <a:gridCol w="700200"/>
                <a:gridCol w="1008000"/>
                <a:gridCol w="1025280"/>
                <a:gridCol w="54612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76280" y="565200"/>
          <a:ext cx="5952960" cy="61498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47448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3556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984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0" name="Picture 240" descr=""/>
          <p:cNvPicPr/>
          <p:nvPr/>
        </p:nvPicPr>
        <p:blipFill>
          <a:blip r:embed="rId1"/>
          <a:stretch/>
        </p:blipFill>
        <p:spPr>
          <a:xfrm>
            <a:off x="479520" y="9684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"/>
          <p:cNvSpPr/>
          <p:nvPr/>
        </p:nvSpPr>
        <p:spPr>
          <a:xfrm>
            <a:off x="455760" y="7826400"/>
            <a:ext cx="5946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4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500040" y="678672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7T02:51:31Z</dcterms:modified>
  <cp:revision>123</cp:revision>
  <dc:subject/>
  <dc:title>슬라이드 1</dc:title>
</cp:coreProperties>
</file>